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7.jpeg" ContentType="image/jpeg"/>
  <Override PartName="/ppt/media/projctor.wav" ContentType="audio/x-wav"/>
  <Override PartName="/ppt/media/APPLAUSE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thinktheme_short.wav" ContentType="audio/x-wav"/>
  <Override PartName="/ppt/media/image5.jpeg" ContentType="image/jpeg"/>
  <Override PartName="/ppt/media/boardfill-Round2.wav" ContentType="audio/x-wav"/>
  <Override PartName="/ppt/media/timesup.wav" ContentType="audio/x-wav"/>
  <Override PartName="/ppt/media/image4.jpeg" ContentType="image/jpeg"/>
  <Override PartName="/ppt/media/thinktheme.wav" ContentType="audio/x-wav"/>
  <Override PartName="/ppt/media/boardfill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Georgia"/>
              </a:rPr>
              <a:t>Click to move the slide</a:t>
            </a: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4F1F-2BFE-4B53-92B4-36F1F22A5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d by Lynne M. Bailey (www.lynnembailey.co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game template is for educational use only and not for commercial use. Credit appreciated. Do NOT post elsewhere without Permission (lynnembailey@yahoo.com). Game concept and sound files from www.Jeopardy.com. Feel free to email with questions and comments. I created this PowerPoint adaptation of the Jeopardy game show in 1998 and updated for use in PowerPoint 2003 in 2007, combining it with Double Jeopardy and embedding the sound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share your Q &amp; A with other users by emailing to me. I will include them on my website, with credit, for others to use. It is suggested that you get your students to write the Q and A. Additional tutorials about how to use this PowerPoint presentation can be found on my website, www.lynnembailey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jo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1BE9-C47B-4969-8D3A-8F473898F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7915-51DF-4467-A3C1-BA93391EB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B2A2-8D2C-4F9B-979E-9880D3483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0263-0140-4320-8506-170694EED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7B8E-1095-4917-B410-1A3BE9ED4B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E0CA-935B-44D9-A46E-6A8637CA28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B8E1-BA12-4D22-A3BE-7BE78101C8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B1F6-BB93-4A06-9B5F-D66C6F85E0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8CA7-E3D4-4C2A-8186-A6FE585921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4B66-0564-4ECD-97E1-2559F8B72C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FC6F-6D0E-4522-A8C6-C8358039F6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5BB0-5E40-4043-AD43-AB5444105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BB8B-60A7-45ED-82BF-BB54100062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546F-13D5-4ECD-B50B-EEF22FF90C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AC93-4537-4FDE-8D19-C539085EDA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AAEF-D5D3-4471-84B9-98F7E7C60C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91DC-2502-483F-9753-4820AFB5E5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AE5E-8D8D-46A1-98CD-26C42B656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0166-111D-4E0C-B9CF-5F3542F1D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E5A3-DB6E-4094-A3CE-8955B2B87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7753-CE19-4939-A208-0CF1E63A2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0887-1368-49E8-916C-1D284DB08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B590-7F88-4386-BEF2-369D34345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FCC6-69B3-4922-923B-FB418AF74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 fontScale="63000"/>
          </a:bodyPr>
          <a:p>
            <a:pPr indent="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1" marL="468000" indent="-180000" algn="ctr">
              <a:spcBef>
                <a:spcPts val="2701"/>
              </a:spcBef>
              <a:buClr>
                <a:srgbClr val="ffffcc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2" marL="720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3" marL="1008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4" marL="1296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5" marL="1296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6" marL="1296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1057320" cy="6912000"/>
          </a:xfrm>
          <a:prstGeom prst="rect">
            <a:avLst/>
          </a:prstGeom>
          <a:ln w="0">
            <a:noFill/>
          </a:ln>
          <a:effectLst>
            <a:outerShdw dist="63360" dir="0" blurRad="0" rotWithShape="0">
              <a:srgbClr val="430161"/>
            </a:outerShdw>
          </a:effectLst>
        </p:spPr>
      </p:pic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25560" y="6552720"/>
            <a:ext cx="101736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3016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D20-83D5-445A-967C-B253C779ECD9}" type="slidenum">
              <a:rPr b="1" lang="en-US" sz="1400" spc="-1" strike="noStrike">
                <a:solidFill>
                  <a:srgbClr val="43016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0" y="0"/>
            <a:ext cx="1066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5086" t="0" r="0" b="366"/>
          <a:stretch/>
        </p:blipFill>
        <p:spPr>
          <a:xfrm>
            <a:off x="609480" y="0"/>
            <a:ext cx="8529840" cy="69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Georgia"/>
              </a:rPr>
              <a:t>Click to edit the title text format</a:t>
            </a: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25560" y="6552720"/>
            <a:ext cx="101736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3016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3F08-1AB1-4388-AD61-698CB765BAB3}" type="slidenum">
              <a:rPr b="1" lang="en-US" sz="1400" spc="-1" strike="noStrike">
                <a:solidFill>
                  <a:srgbClr val="43016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0" y="0"/>
            <a:ext cx="1057320" cy="6912000"/>
          </a:xfrm>
          <a:prstGeom prst="rect">
            <a:avLst/>
          </a:prstGeom>
          <a:ln w="0">
            <a:noFill/>
          </a:ln>
          <a:effectLst>
            <a:outerShdw dist="63360" dir="0" blurRad="0" rotWithShape="0">
              <a:srgbClr val="430161"/>
            </a:outerShdw>
          </a:effectLst>
        </p:spPr>
      </p:pic>
      <p:grpSp>
        <p:nvGrpSpPr>
          <p:cNvPr id="45" name=""/>
          <p:cNvGrpSpPr/>
          <p:nvPr/>
        </p:nvGrpSpPr>
        <p:grpSpPr>
          <a:xfrm>
            <a:off x="6172200" y="4800600"/>
            <a:ext cx="2971440" cy="2057040"/>
            <a:chOff x="6172200" y="4800600"/>
            <a:chExt cx="2971440" cy="2057040"/>
          </a:xfrm>
        </p:grpSpPr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6172200" y="4800600"/>
              <a:ext cx="2971440" cy="20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982560" y="5114520"/>
              <a:ext cx="1080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  <a:p>
            <a:pPr lvl="1" marL="415800" indent="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 lvl="2" marL="831960" algn="ctr">
              <a:spcBef>
                <a:spcPts val="751"/>
              </a:spcBef>
              <a:buClr>
                <a:srgbClr val="ffffcc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3" marL="1248120" algn="ctr">
              <a:spcBef>
                <a:spcPts val="624"/>
              </a:spcBef>
              <a:buClr>
                <a:srgbClr val="ff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4" marL="1663920" algn="ctr">
              <a:spcBef>
                <a:spcPts val="624"/>
              </a:spcBef>
              <a:buClr>
                <a:srgbClr val="ffffcc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5" marL="1663920">
              <a:spcBef>
                <a:spcPts val="499"/>
              </a:spcBef>
              <a:buClr>
                <a:srgbClr val="ffffcc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6" marL="1663920">
              <a:spcBef>
                <a:spcPts val="499"/>
              </a:spcBef>
              <a:buClr>
                <a:srgbClr val="ffffcc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WINDOWS\DESKTOP\dana\jeapordymovie.exe" TargetMode="External"/><Relationship Id="rId2" Type="http://schemas.openxmlformats.org/officeDocument/2006/relationships/slide" Target=""/><Relationship Id="rId3" Type="http://schemas.openxmlformats.org/officeDocument/2006/relationships/audio" Target="../media/thinktheme.wav"/><Relationship Id="rId4" Type="http://schemas.openxmlformats.org/officeDocument/2006/relationships/audio" Target="../media/thinktheme_short.wav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inktheme_short.wav" TargetMode="External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inktheme.wav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imesup.wav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hinktheme_short.wav"/><Relationship Id="rId3" Type="http://schemas.openxmlformats.org/officeDocument/2006/relationships/audio" Target="../media/timesup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imesup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3.xml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slide7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33.xml"/><Relationship Id="rId13" Type="http://schemas.openxmlformats.org/officeDocument/2006/relationships/slide" Target="slide35.xml"/><Relationship Id="rId14" Type="http://schemas.openxmlformats.org/officeDocument/2006/relationships/slide" Target="slide37.xml"/><Relationship Id="rId15" Type="http://schemas.openxmlformats.org/officeDocument/2006/relationships/slide" Target="slide43.xml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slide" Target="slide19.xml"/><Relationship Id="rId19" Type="http://schemas.openxmlformats.org/officeDocument/2006/relationships/slide" Target="slide21.xml"/><Relationship Id="rId20" Type="http://schemas.openxmlformats.org/officeDocument/2006/relationships/slide" Target="slide29.xml"/><Relationship Id="rId21" Type="http://schemas.openxmlformats.org/officeDocument/2006/relationships/slide" Target="slide31.xml"/><Relationship Id="rId22" Type="http://schemas.openxmlformats.org/officeDocument/2006/relationships/slide" Target="slide39.xml"/><Relationship Id="rId23" Type="http://schemas.openxmlformats.org/officeDocument/2006/relationships/slide" Target="slide41.xml"/><Relationship Id="rId24" Type="http://schemas.openxmlformats.org/officeDocument/2006/relationships/slide" Target="slide49.xml"/><Relationship Id="rId25" Type="http://schemas.openxmlformats.org/officeDocument/2006/relationships/slide" Target="slide51.xml"/><Relationship Id="rId26" Type="http://schemas.openxmlformats.org/officeDocument/2006/relationships/slide" Target="slide45.xml"/><Relationship Id="rId27" Type="http://schemas.openxmlformats.org/officeDocument/2006/relationships/slide" Target="slide47.xml"/><Relationship Id="rId28" Type="http://schemas.openxmlformats.org/officeDocument/2006/relationships/slide" Target=""/><Relationship Id="rId29" Type="http://schemas.openxmlformats.org/officeDocument/2006/relationships/hyperlink" Target="file:///tmp/home/.config/libreoffice/4/user/gallery/WHOOSH.WAV" TargetMode="External"/><Relationship Id="rId30" Type="http://schemas.openxmlformats.org/officeDocument/2006/relationships/slide" Target=""/><Relationship Id="rId31" Type="http://schemas.openxmlformats.org/officeDocument/2006/relationships/hyperlink" Target="file:///tmp/home/.config/libreoffice/4/user/gallery/endround.wav" TargetMode="External"/><Relationship Id="rId32" Type="http://schemas.openxmlformats.org/officeDocument/2006/relationships/audio" Target="../media/boardfill-Round2.wav"/><Relationship Id="rId33" Type="http://schemas.openxmlformats.org/officeDocument/2006/relationships/audio" Target="../media/boardfill.wav"/><Relationship Id="rId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audio" Target="../media/thinktheme.wav"/><Relationship Id="rId9" Type="http://schemas.openxmlformats.org/officeDocument/2006/relationships/audio" Target="../media/timesup.wav"/><Relationship Id="rId10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62.xml"/><Relationship Id="rId3" Type="http://schemas.openxmlformats.org/officeDocument/2006/relationships/slide" Target=""/><Relationship Id="rId4" Type="http://schemas.openxmlformats.org/officeDocument/2006/relationships/slide" Target="slide60.xml"/><Relationship Id="rId5" Type="http://schemas.openxmlformats.org/officeDocument/2006/relationships/slide" Target="slide64.xml"/><Relationship Id="rId6" Type="http://schemas.openxmlformats.org/officeDocument/2006/relationships/slide" Target="slide70.xml"/><Relationship Id="rId7" Type="http://schemas.openxmlformats.org/officeDocument/2006/relationships/slide" Target="slide72.xml"/><Relationship Id="rId8" Type="http://schemas.openxmlformats.org/officeDocument/2006/relationships/slide" Target="slide80.xml"/><Relationship Id="rId9" Type="http://schemas.openxmlformats.org/officeDocument/2006/relationships/slide" Target="slide82.xml"/><Relationship Id="rId10" Type="http://schemas.openxmlformats.org/officeDocument/2006/relationships/slide" Target="slide84.xml"/><Relationship Id="rId11" Type="http://schemas.openxmlformats.org/officeDocument/2006/relationships/slide" Target="slide90.xml"/><Relationship Id="rId12" Type="http://schemas.openxmlformats.org/officeDocument/2006/relationships/slide" Target="slide92.xml"/><Relationship Id="rId13" Type="http://schemas.openxmlformats.org/officeDocument/2006/relationships/slide" Target="slide94.xml"/><Relationship Id="rId14" Type="http://schemas.openxmlformats.org/officeDocument/2006/relationships/slide" Target="slide100.xml"/><Relationship Id="rId15" Type="http://schemas.openxmlformats.org/officeDocument/2006/relationships/slide" Target="slide66.xml"/><Relationship Id="rId16" Type="http://schemas.openxmlformats.org/officeDocument/2006/relationships/slide" Target="slide68.xml"/><Relationship Id="rId17" Type="http://schemas.openxmlformats.org/officeDocument/2006/relationships/slide" Target="slide76.xml"/><Relationship Id="rId18" Type="http://schemas.openxmlformats.org/officeDocument/2006/relationships/slide" Target="slide78.xml"/><Relationship Id="rId19" Type="http://schemas.openxmlformats.org/officeDocument/2006/relationships/slide" Target="slide110.xml"/><Relationship Id="rId20" Type="http://schemas.openxmlformats.org/officeDocument/2006/relationships/slide" Target="slide88.xml"/><Relationship Id="rId21" Type="http://schemas.openxmlformats.org/officeDocument/2006/relationships/slide" Target="slide96.xml"/><Relationship Id="rId22" Type="http://schemas.openxmlformats.org/officeDocument/2006/relationships/slide" Target="slide98.xml"/><Relationship Id="rId23" Type="http://schemas.openxmlformats.org/officeDocument/2006/relationships/slide" Target="slide106.xml"/><Relationship Id="rId24" Type="http://schemas.openxmlformats.org/officeDocument/2006/relationships/slide" Target="slide108.xml"/><Relationship Id="rId25" Type="http://schemas.openxmlformats.org/officeDocument/2006/relationships/slide" Target="slide102.xml"/><Relationship Id="rId26" Type="http://schemas.openxmlformats.org/officeDocument/2006/relationships/slide" Target="slide104.xml"/><Relationship Id="rId27" Type="http://schemas.openxmlformats.org/officeDocument/2006/relationships/hyperlink" Target="file:///tmp/home/.config/libreoffice/4/user/gallery/APPLAUSE.WAV" TargetMode="External"/><Relationship Id="rId28" Type="http://schemas.openxmlformats.org/officeDocument/2006/relationships/hyperlink" Target="file:///tmp/home/.config/libreoffice/4/user/gallery/WHOOSH.WAV" TargetMode="External"/><Relationship Id="rId29" Type="http://schemas.openxmlformats.org/officeDocument/2006/relationships/hyperlink" Target="file:///tmp/home/.config/libreoffice/4/user/gallery/endround.wav" TargetMode="External"/><Relationship Id="rId30" Type="http://schemas.openxmlformats.org/officeDocument/2006/relationships/audio" Target="../media/boardfill-Round2.wav"/><Relationship Id="rId31" Type="http://schemas.openxmlformats.org/officeDocument/2006/relationships/audio" Target="../media/boardfill-Round2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9.xm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imesup.wav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00cc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609480"/>
            <a:ext cx="5334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3"/>
                </a:solidFill>
                <a:latin typeface="Comic Sans MS"/>
              </a:rPr>
              <a:t>Math Chapter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3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62320" y="2438280"/>
            <a:ext cx="4876560" cy="2895840"/>
            <a:chOff x="2362320" y="2438280"/>
            <a:chExt cx="4876560" cy="2895840"/>
          </a:xfrm>
        </p:grpSpPr>
        <p:sp>
          <p:nvSpPr>
            <p:cNvPr id="95" name="">
              <a:hlinkClick r:id="rId1"/>
            </p:cNvPr>
            <p:cNvSpPr/>
            <p:nvPr/>
          </p:nvSpPr>
          <p:spPr>
            <a:xfrm>
              <a:off x="2362320" y="2438280"/>
              <a:ext cx="4876560" cy="2895840"/>
            </a:xfrm>
            <a:prstGeom prst="roundRect">
              <a:avLst>
                <a:gd name="adj" fmla="val 16667"/>
              </a:avLst>
            </a:pr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9080" y="2705040"/>
              <a:ext cx="4343400" cy="2362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008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click here</a:t>
              </a:r>
              <a:br>
                <a:rPr sz="5400"/>
              </a:b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to</a:t>
              </a:r>
              <a:br>
                <a:rPr sz="5400"/>
              </a:br>
              <a:r>
                <a:rPr b="0" lang="en-US" sz="6600" spc="-1" strike="noStrike">
                  <a:solidFill>
                    <a:srgbClr val="9900cc"/>
                  </a:solidFill>
                  <a:latin typeface="Comic Sans MS"/>
                </a:rPr>
                <a:t>P</a:t>
              </a:r>
              <a:r>
                <a:rPr b="0" lang="en-US" sz="6600" spc="-1" strike="noStrike">
                  <a:solidFill>
                    <a:srgbClr val="ffc113"/>
                  </a:solidFill>
                  <a:latin typeface="Comic Sans MS"/>
                </a:rPr>
                <a:t>L</a:t>
              </a:r>
              <a:r>
                <a:rPr b="0" lang="en-US" sz="6600" spc="-1" strike="noStrike">
                  <a:solidFill>
                    <a:srgbClr val="008c00"/>
                  </a:solidFill>
                  <a:latin typeface="Comic Sans MS"/>
                </a:rPr>
                <a:t>A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Y</a:t>
              </a:r>
              <a:endParaRPr b="0" lang="en-US" sz="6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2666880" y="2590920"/>
            <a:ext cx="4191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867280"/>
            <a:ext cx="563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reated by Lynne M. Bailey . For educational use only. Credit appreciated. Do NOT post elsewhere without Permission. Game concept and sound files from Jeopardy.com.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3" name="thinktheme.wav"/>
          </p:stSnd>
        </p:sndAc>
      </p:transition>
    </mc:Choice>
    <mc:Fallback>
      <p:transition spd="slow">
        <p:sndAc>
          <p:stSnd>
            <p:snd r:embed="rId3" name="thinktheme.wav"/>
          </p:stSnd>
        </p:sndAc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inktheme_shor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" fill="hold">
                            <p:stCondLst>
                              <p:cond delay="500"/>
                            </p:stCondLst>
                            <p:childTnLst>
                              <p:par>
                                <p:cTn id="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5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,000+400+90+1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383000" y="605628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Ladies is to lady as knives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knif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3" dur="1" fill="hold"/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kip is to skipping as worry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orrying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43815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8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Easier is to easiest as bolder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oldes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3" dur="1" fill="hold"/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Goose is to geese as mouse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3815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mic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8" dur="1" fill="hold"/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ring is to brought as sing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ang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4365720" y="6081840"/>
            <a:ext cx="147636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3" dur="1" fill="hold"/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is number in expanded form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70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44085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9933"/>
                </a:solidFill>
                <a:latin typeface="Comic Sans MS"/>
              </a:rPr>
              <a:t>D</a:t>
            </a:r>
            <a:r>
              <a:rPr b="0" lang="en-US" sz="10600" spc="-1" strike="noStrike">
                <a:solidFill>
                  <a:srgbClr val="ffffcc"/>
                </a:solidFill>
                <a:latin typeface="Comic Sans MS"/>
              </a:rPr>
              <a:t>aily</a:t>
            </a:r>
            <a:br>
              <a:rPr sz="9600"/>
            </a:b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D</a:t>
            </a:r>
            <a:r>
              <a:rPr b="0" lang="en-US" sz="10200" spc="-1" strike="noStrike">
                <a:solidFill>
                  <a:srgbClr val="ccffcc"/>
                </a:solidFill>
                <a:latin typeface="Comic Sans MS"/>
              </a:rPr>
              <a:t>o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u</a:t>
            </a:r>
            <a:r>
              <a:rPr b="0" lang="en-US" sz="10200" spc="-1" strike="noStrike">
                <a:solidFill>
                  <a:srgbClr val="ff9933"/>
                </a:solidFill>
                <a:latin typeface="Comic Sans MS"/>
              </a:rPr>
              <a:t>b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l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e</a:t>
            </a:r>
            <a:endParaRPr b="0" lang="en-US" sz="10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9" name="">
            <a:hlinkClick r:id="rId1"/>
          </p:cNvPr>
          <p:cNvSpPr/>
          <p:nvPr/>
        </p:nvSpPr>
        <p:spPr>
          <a:xfrm>
            <a:off x="1981080" y="838080"/>
            <a:ext cx="6324840" cy="5181840"/>
          </a:xfrm>
          <a:prstGeom prst="rect">
            <a:avLst/>
          </a:prstGeom>
          <a:noFill/>
          <a:ln w="76320">
            <a:solidFill>
              <a:srgbClr val="f7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75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75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lnSpc>
                <a:spcPct val="75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9933"/>
                </a:solidFill>
                <a:latin typeface="Comic Sans MS"/>
              </a:rPr>
              <a:t>F</a:t>
            </a:r>
            <a:r>
              <a:rPr b="0" lang="en-US" sz="10600" spc="-1" strike="noStrike">
                <a:solidFill>
                  <a:srgbClr val="ffffcc"/>
                </a:solidFill>
                <a:latin typeface="Comic Sans MS"/>
              </a:rPr>
              <a:t>inal</a:t>
            </a:r>
            <a:br>
              <a:rPr sz="9600"/>
            </a:b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J</a:t>
            </a:r>
            <a:r>
              <a:rPr b="0" lang="en-US" sz="10200" spc="-1" strike="noStrike">
                <a:solidFill>
                  <a:srgbClr val="ccffcc"/>
                </a:solidFill>
                <a:latin typeface="Comic Sans MS"/>
              </a:rPr>
              <a:t>e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op</a:t>
            </a:r>
            <a:r>
              <a:rPr b="0" lang="en-US" sz="10200" spc="-1" strike="noStrike">
                <a:solidFill>
                  <a:srgbClr val="ff9933"/>
                </a:solidFill>
                <a:latin typeface="Comic Sans MS"/>
              </a:rPr>
              <a:t>a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r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dy</a:t>
            </a:r>
            <a:endParaRPr b="0" lang="en-US" sz="10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2" name="">
            <a:hlinkClick r:id="rId1"/>
          </p:cNvPr>
          <p:cNvSpPr/>
          <p:nvPr/>
        </p:nvSpPr>
        <p:spPr>
          <a:xfrm>
            <a:off x="1981080" y="838080"/>
            <a:ext cx="6324840" cy="5181840"/>
          </a:xfrm>
          <a:prstGeom prst="rect">
            <a:avLst/>
          </a:prstGeom>
          <a:noFill/>
          <a:ln w="76320">
            <a:solidFill>
              <a:srgbClr val="f7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4952880"/>
            <a:ext cx="3200400" cy="52056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Analog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APPLAUSE.WAV"/>
          </p:stSnd>
        </p:sndAc>
      </p:transition>
    </mc:Choice>
    <mc:Fallback>
      <p:transition spd="slow">
        <p:sndAc>
          <p:stSnd>
            <p:snd r:embed="rId2" name="APPLAUSE.WAV"/>
          </p:stSnd>
        </p:sndAc>
      </p:transition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75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75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50"/>
                            </p:stCondLst>
                            <p:childTnLst>
                              <p:par>
                                <p:cTn id="10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moke is to fire as rain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ouds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timesup.wav"/>
          </p:stSnd>
        </p:sndAc>
      </p:transition>
    </mc:Choice>
    <mc:Fallback>
      <p:transition spd="slow">
        <p:sndAc>
          <p:stSnd>
            <p:snd r:embed="rId2" name="timesup.wav"/>
          </p:stSnd>
        </p:sndAc>
      </p:transition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743200" y="1066680"/>
            <a:ext cx="5334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81080" y="1371600"/>
            <a:ext cx="4876920" cy="2895480"/>
            <a:chOff x="1981080" y="1371600"/>
            <a:chExt cx="4876920" cy="2895480"/>
          </a:xfrm>
        </p:grpSpPr>
        <p:sp>
          <p:nvSpPr>
            <p:cNvPr id="430" name="">
              <a:hlinkClick r:id="" action="ppaction://hlinkshowjump?jump=endshow"/>
            </p:cNvPr>
            <p:cNvSpPr/>
            <p:nvPr/>
          </p:nvSpPr>
          <p:spPr>
            <a:xfrm>
              <a:off x="1981080" y="1371600"/>
              <a:ext cx="4876920" cy="2895480"/>
            </a:xfrm>
            <a:prstGeom prst="roundRect">
              <a:avLst>
                <a:gd name="adj" fmla="val 16667"/>
              </a:avLst>
            </a:pr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9680" y="1600200"/>
              <a:ext cx="4343400" cy="2362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008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Thanks for</a:t>
              </a:r>
              <a:br>
                <a:rPr sz="5400"/>
              </a:br>
              <a:r>
                <a:rPr b="0" lang="en-US" sz="6600" spc="-1" strike="noStrike">
                  <a:solidFill>
                    <a:srgbClr val="ffc113"/>
                  </a:solidFill>
                  <a:latin typeface="Comic Sans MS"/>
                </a:rPr>
                <a:t>P</a:t>
              </a:r>
              <a:r>
                <a:rPr b="0" lang="en-US" sz="6600" spc="-1" strike="noStrike">
                  <a:solidFill>
                    <a:srgbClr val="008c00"/>
                  </a:solidFill>
                  <a:latin typeface="Comic Sans MS"/>
                </a:rPr>
                <a:t>L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A</a:t>
              </a:r>
              <a:r>
                <a:rPr b="0" lang="en-US" sz="6600" spc="-1" strike="noStrike">
                  <a:solidFill>
                    <a:srgbClr val="993300"/>
                  </a:solidFill>
                  <a:latin typeface="Comic Sans MS"/>
                </a:rPr>
                <a:t>Y</a:t>
              </a:r>
              <a:r>
                <a:rPr b="0" lang="en-US" sz="6600" spc="-1" strike="noStrike">
                  <a:solidFill>
                    <a:srgbClr val="ffffcc"/>
                  </a:solidFill>
                  <a:latin typeface="Comic Sans MS"/>
                </a:rPr>
                <a:t>I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N</a:t>
              </a:r>
              <a:r>
                <a:rPr b="0" lang="en-US" sz="6600" spc="-1" strike="noStrike">
                  <a:solidFill>
                    <a:srgbClr val="ff9933"/>
                  </a:solidFill>
                  <a:latin typeface="Comic Sans MS"/>
                </a:rPr>
                <a:t>G</a:t>
              </a:r>
              <a:r>
                <a:rPr b="0" lang="en-US" sz="6600" spc="-1" strike="noStrike">
                  <a:solidFill>
                    <a:srgbClr val="430161"/>
                  </a:solidFill>
                  <a:latin typeface="Comic Sans MS"/>
                </a:rPr>
                <a:t>!</a:t>
              </a:r>
              <a:endParaRPr b="0" lang="en-US" sz="6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518184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29520" bIns="2952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75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75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000+700+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408560" y="605628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nd and continue the pattern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1, 28, 35, ___,___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42, 49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hat is the greatest number you can make from the digits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5,3,7,9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75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 the value of the underlined number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 Narrow"/>
              </a:rPr>
              <a:t>3</a:t>
            </a: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,469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495680"/>
            <a:ext cx="685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thinktheme_short.wav"/>
          </p:stSnd>
        </p:sndAc>
      </p:transition>
    </mc:Choice>
    <mc:Fallback>
      <p:transition spd="slow">
        <p:sndAc>
          <p:stSnd>
            <p:snd r:embed="rId2" name="thinktheme_short.wav"/>
          </p:stSnd>
        </p:sndAc>
      </p:transition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,0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timesup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e value of the underlined number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 Narrow"/>
              </a:rPr>
              <a:t>1</a:t>
            </a: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536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8300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22400" y="321300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680" y="21430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10620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440" y="3213000"/>
            <a:ext cx="1701720" cy="99072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1916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2400" y="21304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212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2120" y="21304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5360" y="320040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5080" y="1092240"/>
            <a:ext cx="1692360" cy="97776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41840" y="2130480"/>
            <a:ext cx="1687680" cy="100656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48320" y="3213000"/>
            <a:ext cx="168768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1092240"/>
            <a:ext cx="1692360" cy="97776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760" y="4280040"/>
            <a:ext cx="1701720" cy="9903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760" y="5334120"/>
            <a:ext cx="1701720" cy="9903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1304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1304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20960" y="4267080"/>
            <a:ext cx="170208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20960" y="5321160"/>
            <a:ext cx="170208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2924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2924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3752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3752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43640" y="2130480"/>
            <a:ext cx="1687680" cy="100656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46880" y="3213000"/>
            <a:ext cx="168768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" y="28440"/>
            <a:ext cx="1711440" cy="99720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840" y="28440"/>
            <a:ext cx="1711080" cy="99720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omparing Number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59480" y="28440"/>
            <a:ext cx="1685880" cy="99720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Rounding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51560" y="28440"/>
            <a:ext cx="1686240" cy="99720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oney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24200" y="28440"/>
            <a:ext cx="1711080" cy="997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lace Val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00" y="6330960"/>
            <a:ext cx="9131400" cy="52704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>
            <a:hlinkClick r:id="rId28" action="ppaction://hlinksldjump"/>
          </p:cNvPr>
          <p:cNvSpPr/>
          <p:nvPr/>
        </p:nvSpPr>
        <p:spPr>
          <a:xfrm>
            <a:off x="64008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Go to Final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>
            <a:hlinkClick r:id="rId29"/>
          </p:cNvPr>
          <p:cNvSpPr/>
          <p:nvPr/>
        </p:nvSpPr>
        <p:spPr>
          <a:xfrm>
            <a:off x="3049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Go to Double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>
            <a:hlinkClick r:id="rId30" action="ppaction://hlinksldjump"/>
          </p:cNvPr>
          <p:cNvSpPr/>
          <p:nvPr/>
        </p:nvSpPr>
        <p:spPr>
          <a:xfrm>
            <a:off x="34290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Repla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>
            <a:hlinkClick r:id="rId31"/>
          </p:cNvPr>
          <p:cNvSpPr/>
          <p:nvPr/>
        </p:nvSpPr>
        <p:spPr>
          <a:xfrm>
            <a:off x="50292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End R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oardfill-R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10,0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e value of the underlined number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 Narrow"/>
              </a:rPr>
              <a:t>3</a:t>
            </a: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7.41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00,0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Use &lt;, &gt;, or =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6  ___ 62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6&lt;62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Use &lt;, &gt;, or =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67 __ 48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44085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69 &lt; 48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Use &lt;, &gt;, or =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8,354 ___8,345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8,354 &gt; 8,345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ese numbers in order from least to greatest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57     862     61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438300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hat is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00+30+4 in standard form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13    657    862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ese numbers in order from greatest to least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1,543    1,254   1,765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1,756   1,543  1,25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ten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2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ten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8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7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ten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5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44067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5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hundred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21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99800" y="1908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3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hundred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487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44085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5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43704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nd the value of the money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24480" y="4191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343400" y="4267080"/>
            <a:ext cx="14288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$0.4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nd the value of the money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867280" y="4648320"/>
            <a:ext cx="2210040" cy="971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038480" y="4267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743200" y="4419720"/>
            <a:ext cx="11430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$1.55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Katie has saved 400 pennies.  She wants to exchange them for $1 bills.  How many $1 bills can she get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Jess bought a toy for $1.55.  He paid with $2.00.  How much change did he get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hat is 603 in expanded form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$0.45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y bought a hamburger for $3.49.  He paid with a $5 bill.  How much change would he get back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$1.51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9933"/>
                </a:solidFill>
                <a:latin typeface="Comic Sans MS"/>
              </a:rPr>
              <a:t>D</a:t>
            </a:r>
            <a:r>
              <a:rPr b="0" lang="en-US" sz="10600" spc="-1" strike="noStrike">
                <a:solidFill>
                  <a:srgbClr val="66ccff"/>
                </a:solidFill>
                <a:latin typeface="Comic Sans MS"/>
              </a:rPr>
              <a:t>aily</a:t>
            </a:r>
            <a:br>
              <a:rPr sz="9600"/>
            </a:br>
            <a:r>
              <a:rPr b="0" lang="en-US" sz="10200" spc="-1" strike="noStrike">
                <a:solidFill>
                  <a:srgbClr val="9900cc"/>
                </a:solidFill>
                <a:latin typeface="Comic Sans MS"/>
              </a:rPr>
              <a:t>D</a:t>
            </a:r>
            <a:r>
              <a:rPr b="0" lang="en-US" sz="10200" spc="-1" strike="noStrike">
                <a:solidFill>
                  <a:srgbClr val="ccffcc"/>
                </a:solidFill>
                <a:latin typeface="Comic Sans MS"/>
              </a:rPr>
              <a:t>o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u</a:t>
            </a:r>
            <a:r>
              <a:rPr b="0" lang="en-US" sz="10200" spc="-1" strike="noStrike">
                <a:solidFill>
                  <a:srgbClr val="ff9933"/>
                </a:solidFill>
                <a:latin typeface="Comic Sans MS"/>
              </a:rPr>
              <a:t>b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l</a:t>
            </a:r>
            <a:r>
              <a:rPr b="0" lang="en-US" sz="10200" spc="-1" strike="noStrike">
                <a:solidFill>
                  <a:srgbClr val="66ccff"/>
                </a:solidFill>
                <a:latin typeface="Comic Sans MS"/>
              </a:rPr>
              <a:t>e</a:t>
            </a:r>
            <a:endParaRPr b="0" lang="en-US" sz="10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1943280" y="838080"/>
            <a:ext cx="6324480" cy="5181840"/>
          </a:xfrm>
          <a:prstGeom prst="rect">
            <a:avLst/>
          </a:prstGeom>
          <a:noFill/>
          <a:ln w="76320">
            <a:solidFill>
              <a:srgbClr val="f7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2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7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7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lnSpc>
                <a:spcPct val="75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9933"/>
                </a:solidFill>
                <a:latin typeface="Comic Sans MS"/>
              </a:rPr>
              <a:t>F</a:t>
            </a:r>
            <a:r>
              <a:rPr b="0" lang="en-US" sz="10600" spc="-1" strike="noStrike">
                <a:solidFill>
                  <a:srgbClr val="66ccff"/>
                </a:solidFill>
                <a:latin typeface="Comic Sans MS"/>
              </a:rPr>
              <a:t>inal</a:t>
            </a:r>
            <a:br>
              <a:rPr sz="9600"/>
            </a:br>
            <a:r>
              <a:rPr b="0" lang="en-US" sz="10200" spc="-1" strike="noStrike">
                <a:solidFill>
                  <a:srgbClr val="9900cc"/>
                </a:solidFill>
                <a:latin typeface="Comic Sans MS"/>
              </a:rPr>
              <a:t>J</a:t>
            </a:r>
            <a:r>
              <a:rPr b="0" lang="en-US" sz="10200" spc="-1" strike="noStrike">
                <a:solidFill>
                  <a:srgbClr val="ccffcc"/>
                </a:solidFill>
                <a:latin typeface="Comic Sans MS"/>
              </a:rPr>
              <a:t>e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o</a:t>
            </a:r>
            <a:r>
              <a:rPr b="0" lang="en-US" sz="102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10200" spc="-1" strike="noStrike">
                <a:solidFill>
                  <a:srgbClr val="ff9933"/>
                </a:solidFill>
                <a:latin typeface="Comic Sans MS"/>
              </a:rPr>
              <a:t>a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r</a:t>
            </a:r>
            <a:r>
              <a:rPr b="0" lang="en-US" sz="10200" spc="-1" strike="noStrike">
                <a:solidFill>
                  <a:srgbClr val="66ccff"/>
                </a:solidFill>
                <a:latin typeface="Comic Sans MS"/>
              </a:rPr>
              <a:t>d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y</a:t>
            </a:r>
            <a:endParaRPr b="0" lang="en-US" sz="10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1981080" y="838080"/>
            <a:ext cx="6324840" cy="5181840"/>
          </a:xfrm>
          <a:prstGeom prst="rect">
            <a:avLst/>
          </a:prstGeom>
          <a:noFill/>
          <a:ln w="76320">
            <a:solidFill>
              <a:srgbClr val="f7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4952880"/>
            <a:ext cx="3200400" cy="94716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Today’s Category: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Homony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2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3" name="APPLAUSE.WAV"/>
          </p:stSnd>
        </p:sndAc>
      </p:transition>
    </mc:Choice>
    <mc:Fallback>
      <p:transition spd="slow">
        <p:sndAc>
          <p:stSnd>
            <p:snd r:embed="rId3" name="APPLAUSE.WAV"/>
          </p:stSnd>
        </p:sndAc>
      </p:transition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50"/>
                            </p:stCondLst>
                            <p:childTnLst>
                              <p:par>
                                <p:cTn id="4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I want to buy a book.  The book costs $3.62.  Do I have enough money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-228600" y="57913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629400" y="518148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2743200" y="4495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5486400" y="49528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4419720" y="49528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1600200" y="4724280"/>
            <a:ext cx="112860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hink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3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No.  I only have $3.1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4394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projctor.wav"/>
          </p:stSnd>
        </p:sndAc>
      </p:transition>
    </mc:Choice>
    <mc:Fallback>
      <p:transition spd="slow">
        <p:sndAc>
          <p:stSnd>
            <p:snd r:embed="rId2" name="projctor.wav"/>
          </p:stSnd>
        </p:sndAc>
      </p:transition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743200" y="1066680"/>
            <a:ext cx="5334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East Street Scho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3rd Grad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ELA Jeopar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438280" y="2514600"/>
            <a:ext cx="4876920" cy="2895480"/>
            <a:chOff x="2438280" y="2514600"/>
            <a:chExt cx="4876920" cy="289548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2438280" y="2514600"/>
              <a:ext cx="4876920" cy="2895480"/>
            </a:xfrm>
            <a:prstGeom prst="roundRect">
              <a:avLst>
                <a:gd name="adj" fmla="val 16667"/>
              </a:avLst>
            </a:pr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6880" y="2743200"/>
              <a:ext cx="4343400" cy="2362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008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Thanks for</a:t>
              </a:r>
              <a:br>
                <a:rPr sz="5400"/>
              </a:br>
              <a:r>
                <a:rPr b="0" lang="en-US" sz="6600" spc="-1" strike="noStrike">
                  <a:solidFill>
                    <a:srgbClr val="ffc113"/>
                  </a:solidFill>
                  <a:latin typeface="Comic Sans MS"/>
                </a:rPr>
                <a:t>P</a:t>
              </a:r>
              <a:r>
                <a:rPr b="0" lang="en-US" sz="6600" spc="-1" strike="noStrike">
                  <a:solidFill>
                    <a:srgbClr val="008c00"/>
                  </a:solidFill>
                  <a:latin typeface="Comic Sans MS"/>
                </a:rPr>
                <a:t>L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A</a:t>
              </a:r>
              <a:r>
                <a:rPr b="0" lang="en-US" sz="6600" spc="-1" strike="noStrike">
                  <a:solidFill>
                    <a:srgbClr val="993300"/>
                  </a:solidFill>
                  <a:latin typeface="Comic Sans MS"/>
                </a:rPr>
                <a:t>Y</a:t>
              </a:r>
              <a:r>
                <a:rPr b="0" lang="en-US" sz="6600" spc="-1" strike="noStrike">
                  <a:solidFill>
                    <a:srgbClr val="9900cc"/>
                  </a:solidFill>
                  <a:latin typeface="Comic Sans MS"/>
                </a:rPr>
                <a:t>I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N</a:t>
              </a:r>
              <a:r>
                <a:rPr b="0" lang="en-US" sz="6600" spc="-1" strike="noStrike">
                  <a:solidFill>
                    <a:srgbClr val="ff9933"/>
                  </a:solidFill>
                  <a:latin typeface="Comic Sans MS"/>
                </a:rPr>
                <a:t>G</a:t>
              </a:r>
              <a:r>
                <a:rPr b="0" lang="en-US" sz="6600" spc="-1" strike="noStrike">
                  <a:solidFill>
                    <a:srgbClr val="430161"/>
                  </a:solidFill>
                  <a:latin typeface="Comic Sans MS"/>
                </a:rPr>
                <a:t>!</a:t>
              </a:r>
              <a:endParaRPr b="0" lang="en-US" sz="6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/>
          </p:cNvPr>
          <p:cNvSpPr/>
          <p:nvPr/>
        </p:nvSpPr>
        <p:spPr>
          <a:xfrm>
            <a:off x="106668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Narrow"/>
              </a:rPr>
              <a:t>Go to Double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125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743200" y="1066680"/>
            <a:ext cx="5334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438280" y="2514600"/>
            <a:ext cx="4876920" cy="2895480"/>
            <a:chOff x="2438280" y="2514600"/>
            <a:chExt cx="4876920" cy="2895480"/>
          </a:xfrm>
        </p:grpSpPr>
        <p:sp>
          <p:nvSpPr>
            <p:cNvPr id="278" name="">
              <a:hlinkClick r:id="" action="ppaction://hlinkshowjump?jump=nextslide"/>
            </p:cNvPr>
            <p:cNvSpPr/>
            <p:nvPr/>
          </p:nvSpPr>
          <p:spPr>
            <a:xfrm>
              <a:off x="2438280" y="2514600"/>
              <a:ext cx="4876920" cy="2895480"/>
            </a:xfrm>
            <a:prstGeom prst="roundRect">
              <a:avLst>
                <a:gd name="adj" fmla="val 16667"/>
              </a:avLst>
            </a:pr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66880" y="2743200"/>
              <a:ext cx="4343400" cy="2362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008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Double</a:t>
              </a:r>
              <a:br>
                <a:rPr sz="5400"/>
              </a:br>
              <a:r>
                <a:rPr b="0" lang="en-US" sz="6600" spc="-1" strike="noStrike">
                  <a:solidFill>
                    <a:srgbClr val="ffc113"/>
                  </a:solidFill>
                  <a:latin typeface="Comic Sans MS"/>
                </a:rPr>
                <a:t>J</a:t>
              </a:r>
              <a:r>
                <a:rPr b="0" lang="en-US" sz="6600" spc="-1" strike="noStrike">
                  <a:solidFill>
                    <a:srgbClr val="008c00"/>
                  </a:solidFill>
                  <a:latin typeface="Comic Sans MS"/>
                </a:rPr>
                <a:t>eo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p</a:t>
              </a:r>
              <a:r>
                <a:rPr b="0" lang="en-US" sz="6600" spc="-1" strike="noStrike">
                  <a:solidFill>
                    <a:srgbClr val="993300"/>
                  </a:solidFill>
                  <a:latin typeface="Comic Sans MS"/>
                </a:rPr>
                <a:t>a</a:t>
              </a:r>
              <a:r>
                <a:rPr b="0" lang="en-US" sz="6600" spc="-1" strike="noStrike">
                  <a:solidFill>
                    <a:srgbClr val="ffffcc"/>
                  </a:solidFill>
                  <a:latin typeface="Comic Sans MS"/>
                </a:rPr>
                <a:t>r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d</a:t>
              </a:r>
              <a:r>
                <a:rPr b="0" lang="en-US" sz="6600" spc="-1" strike="noStrike">
                  <a:solidFill>
                    <a:srgbClr val="ff9933"/>
                  </a:solidFill>
                  <a:latin typeface="Comic Sans MS"/>
                </a:rPr>
                <a:t>y</a:t>
              </a:r>
              <a:endParaRPr b="0" lang="en-US" sz="6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3886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4572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Shows a relationshi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between two sets of wor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22400" y="321300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2680" y="21430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10620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9440" y="3213000"/>
            <a:ext cx="1701720" cy="99072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1916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22400" y="21304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3212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32120" y="21304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35360" y="320040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45080" y="1092240"/>
            <a:ext cx="1692360" cy="97776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2130480"/>
            <a:ext cx="1687680" cy="100656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48320" y="3213000"/>
            <a:ext cx="168768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45440" y="1092240"/>
            <a:ext cx="1692360" cy="97776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4760" y="4280040"/>
            <a:ext cx="1701720" cy="9903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4760" y="5334120"/>
            <a:ext cx="1701720" cy="9903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1304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1304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20960" y="4267080"/>
            <a:ext cx="170208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20960" y="5321160"/>
            <a:ext cx="170208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2924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2924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3752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3752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43640" y="2130480"/>
            <a:ext cx="1687680" cy="100656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46880" y="3213000"/>
            <a:ext cx="168768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6200" y="28440"/>
            <a:ext cx="1711440" cy="99720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ynonym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1840" y="28440"/>
            <a:ext cx="1711080" cy="99720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ategorie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9480" y="28440"/>
            <a:ext cx="1685880" cy="99720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ntonym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51560" y="28440"/>
            <a:ext cx="1686240" cy="99720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Word Structur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24200" y="28440"/>
            <a:ext cx="1711080" cy="997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 and Locatio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600" y="6330960"/>
            <a:ext cx="9131400" cy="52704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>
            <a:hlinkClick r:id="rId27"/>
          </p:cNvPr>
          <p:cNvSpPr/>
          <p:nvPr/>
        </p:nvSpPr>
        <p:spPr>
          <a:xfrm>
            <a:off x="64008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Go to Final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">
            <a:hlinkClick r:id="rId28"/>
          </p:cNvPr>
          <p:cNvSpPr/>
          <p:nvPr/>
        </p:nvSpPr>
        <p:spPr>
          <a:xfrm>
            <a:off x="3049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Go to Regular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Repla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>
            <a:hlinkClick r:id="rId29"/>
          </p:cNvPr>
          <p:cNvSpPr/>
          <p:nvPr/>
        </p:nvSpPr>
        <p:spPr>
          <a:xfrm>
            <a:off x="50292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End R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oardfill-R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ardfill-R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0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7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8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8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9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9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00+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Listen is to hear as look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e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44085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6" dur="1" fill="hold"/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Quarrel is to argument as rubbish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garbag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1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avory is to tasty as boring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dul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44085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2" action="ppaction://hlinksldjump"/>
              </a:rPr>
              <a:t>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6" dur="1" fill="hold"/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riend is to ally as enemy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opponen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1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Noisy is to clamorous and splendid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uperb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4381560" y="6081840"/>
            <a:ext cx="14731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6" dur="1" fill="hold"/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is number in standard form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Eight hundred seventy thre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ake is to cake as broil is to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me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1" dur="1" fill="hold"/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ee is to hive as bird is to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nes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6" dur="1" fill="hold"/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ut is to scissors as slie is to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knif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1" dur="1" fill="hold"/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Eye is to see as ear is to 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hear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6" dur="1" fill="hold"/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Ankle is to foot as wrist is to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4085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hand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4356000" y="6081840"/>
            <a:ext cx="149868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81" dur="1" fill="hold"/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87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Hour is to day as week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month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6" dur="1" fill="hold"/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Pebble is to rock as minnow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sh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11" dur="1" fill="hold"/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ood is to stomach as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gasoline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uel tank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6" dur="1" fill="hold"/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Tiger is to mammal as lizard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eptil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timesup.wav"/>
      </p:stSnd>
    </p:sndAc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A page is to a book as a piece is to a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puzzl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7" name=""/>
          <p:cNvSpPr/>
          <p:nvPr/>
        </p:nvSpPr>
        <p:spPr>
          <a:xfrm>
            <a:off x="4381560" y="6081840"/>
            <a:ext cx="14731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3" dur="1" fill="hold"/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is number in expanded form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,491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Down is to up as low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high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"/>
          <p:cNvSpPr/>
          <p:nvPr/>
        </p:nvSpPr>
        <p:spPr>
          <a:xfrm>
            <a:off x="4421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8" dur="1" fill="hold"/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ig is to little as large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mal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5" name=""/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3" dur="1" fill="hold"/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On is to off as start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top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9" name=""/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8" dur="1" fill="hold"/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Top is to bottom as back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ron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3" dur="1" fill="hold"/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Minimize is to maximize ad cheap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expensiv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6081840"/>
            <a:ext cx="152388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28" dur="1" fill="hold"/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1:33:07Z</dcterms:created>
  <dc:creator>Lynne M. Bailey</dc:creator>
  <dc:description>Lynne Bailey
lynnembailey@yahoo.com
For educational use ONLY. Share with credit and do NOT post elsewhere without permission.</dc:description>
  <dc:language>en-US</dc:language>
  <cp:lastModifiedBy>jpotter</cp:lastModifiedBy>
  <cp:lastPrinted>1999-11-05T20:31:08Z</cp:lastPrinted>
  <dcterms:modified xsi:type="dcterms:W3CDTF">2009-10-05T14:50:20Z</dcterms:modified>
  <cp:revision>104</cp:revision>
  <dc:subject/>
  <dc:title>Jeopardy Game Template</dc:title>
</cp:coreProperties>
</file>